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83BC-7AC9-4537-B68E-033448C2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6B49-B07E-44C1-955D-291C5F17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F89D-5D16-4754-A223-A481CEE9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AABF-8F38-4037-8990-E4DD1137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48B2-5CEF-42ED-B747-40AF5E65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28E5-1B56-4B1C-AF7A-968C0FA9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F33C-7EFC-432F-AD1B-0399FE0C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DB07-CCDC-410B-A518-1A3D42BC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E105-6264-43E1-9AB7-20297EA2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7E81-C22E-4743-99B1-609035D3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D9DE-6B6C-4F29-BE5F-02138FFF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2774-7698-4341-B171-79B232A7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4FA0-5218-4A56-94BD-1B55497B197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66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197000"/>
            <a:ext cx="51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ZAMKI </a:t>
            </a:r>
            <a:br>
              <a:rPr sz="8800"/>
            </a:b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w POLS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692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Warsza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724280"/>
            <a:ext cx="7705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, a także siedzibą sejmu i senat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5648040" cy="423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5886360" cy="357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24000" y="981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na Wawelu w Krak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4581360"/>
            <a:ext cx="7058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 aż do początku XVII wie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98100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zyżac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Malbor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797360"/>
            <a:ext cx="8207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zdobyta twierdza wielkiego mistrza podczas oblężenia przez wojska polsko-litewskie pod wodzą króla Władysława Jagiełły po bitwie grunwaldzkiej w 1410 ro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zamek jest siedzibą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6121440" cy="45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981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Ksią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1640" y="4365720"/>
            <a:ext cx="828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owi jeden z elementów Szlaku Zamków Piastowskich. Jest to trzeci co do wielkości zamek w Polsce (po zamku   w Malborku i Zamku Królewskim na Wawelu)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część zespołu pałacowego jest udostępniona dla zwiedza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407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Arial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16572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6:11:17Z</dcterms:created>
  <dc:creator>Administrator</dc:creator>
  <dc:description/>
  <dc:language>en-US</dc:language>
  <cp:lastModifiedBy>Administrator</cp:lastModifiedBy>
  <dcterms:modified xsi:type="dcterms:W3CDTF">2006-06-13T21:28:38Z</dcterms:modified>
  <cp:revision>15</cp:revision>
  <dc:subject/>
  <dc:title>Slajd 1</dc:title>
</cp:coreProperties>
</file>